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7208163" cy="352075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BF4C-50F3-47A1-8DCE-4569EA2B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2448720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60440" y="20351520"/>
            <a:ext cx="2448720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908-9C20-4F60-99C0-7AF247CF0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044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390788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1AAF-6D6B-4517-8112-FC80E43C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639720" y="821484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19000" y="821484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60440" y="2035152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9639720" y="2035152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7919000" y="20351520"/>
            <a:ext cx="788472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E3E3-3BB3-4D5E-8BC4-16C4BE557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60440" y="8214840"/>
            <a:ext cx="24487200" cy="2323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124"/>
              </a:spcBef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9316-6D9B-41B3-891A-72BBADB3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2448720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8F84-0AA1-4B64-BA6D-38B1FCC2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9A9-A7FE-481D-B9F3-C8FCF053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7A46-3922-4942-9A13-E464BB8A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60440" y="1409400"/>
            <a:ext cx="24487200" cy="272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124"/>
              </a:spcBef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6754-A395-431D-B33F-3DA459E0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6044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86D-ACE1-42A5-A401-8B34801A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907880" y="2035152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5AAE-58F7-44EE-9252-6C8925F3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044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3907880" y="8214840"/>
            <a:ext cx="1194948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60440" y="20351520"/>
            <a:ext cx="24487200" cy="1108332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indent="0">
              <a:spcBef>
                <a:spcPts val="3124"/>
              </a:spcBef>
              <a:buNone/>
              <a:tabLst>
                <a:tab algn="l" pos="3567240"/>
                <a:tab algn="l" pos="7134120"/>
                <a:tab algn="l" pos="10701360"/>
              </a:tabLst>
            </a:pP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3BF-314C-476C-8C28-FCF56466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60440" y="1409400"/>
            <a:ext cx="24487200" cy="586908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ctr">
            <a:noAutofit/>
          </a:bodyPr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7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60440" y="8214840"/>
            <a:ext cx="24487200" cy="2323620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rmAutofit/>
          </a:bodyPr>
          <a:p>
            <a:pPr marL="1338120" indent="-133812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1" marL="2897280" indent="-111456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2" marL="4457880" indent="-890640">
              <a:spcBef>
                <a:spcPts val="3124"/>
              </a:spcBef>
              <a:buClr>
                <a:srgbClr val="000000"/>
              </a:buClr>
              <a:buFont typeface="Arial"/>
              <a:buChar char="•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3" marL="6242040" indent="-892080">
              <a:spcBef>
                <a:spcPts val="3124"/>
              </a:spcBef>
              <a:buClr>
                <a:srgbClr val="000000"/>
              </a:buClr>
              <a:buFont typeface="Arial"/>
              <a:buChar char="–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4" marL="8024760" indent="-89208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5" marL="8024760" indent="-89208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  <a:p>
            <a:pPr lvl="6" marL="8024760" indent="-892080">
              <a:spcBef>
                <a:spcPts val="3124"/>
              </a:spcBef>
              <a:buClr>
                <a:srgbClr val="000000"/>
              </a:buClr>
              <a:buFont typeface="Arial"/>
              <a:buChar char="»"/>
              <a:tabLst>
                <a:tab algn="l" pos="3567240"/>
                <a:tab algn="l" pos="7134120"/>
                <a:tab algn="l" pos="10701360"/>
              </a:tabLst>
            </a:pPr>
            <a:r>
              <a:rPr b="0" lang="en-US" sz="1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60080" y="32062320"/>
            <a:ext cx="6348600" cy="244476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Autofit/>
          </a:bodyPr>
          <a:lstStyle>
            <a:lvl1pPr indent="0">
              <a:buNone/>
              <a:tabLst>
                <a:tab algn="l" pos="0"/>
                <a:tab algn="l" pos="3567240"/>
                <a:tab algn="l" pos="7134120"/>
                <a:tab algn="l" pos="10701360"/>
              </a:tabLst>
              <a:defRPr b="0" lang="en-US" sz="5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9296280" y="32062320"/>
            <a:ext cx="8615520" cy="244476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Autofit/>
          </a:bodyPr>
          <a:lstStyle>
            <a:lvl1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  <a:defRPr b="0" lang="en-US" sz="5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9499400" y="32062320"/>
            <a:ext cx="6348240" cy="2444760"/>
          </a:xfrm>
          <a:prstGeom prst="rect">
            <a:avLst/>
          </a:prstGeom>
          <a:noFill/>
          <a:ln w="0">
            <a:noFill/>
          </a:ln>
        </p:spPr>
        <p:txBody>
          <a:bodyPr lIns="356760" rIns="356760" tIns="178200" bIns="178200" anchor="t">
            <a:noAutofit/>
          </a:bodyPr>
          <a:lstStyle>
            <a:lvl1pPr indent="0" algn="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  <a:defRPr b="0" lang="en-US" sz="5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567240"/>
                <a:tab algn="l" pos="7134120"/>
                <a:tab algn="l" pos="10701360"/>
              </a:tabLst>
            </a:pPr>
            <a:fld id="{3B35BC6F-CE7A-49BF-9516-38C589398CDC}" type="slidenum">
              <a:rPr b="0" lang="en-US" sz="5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22360" y="19162800"/>
            <a:ext cx="9717120" cy="971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217520"/>
            <a:ext cx="27208080" cy="26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00"/>
                </a:solidFill>
                <a:latin typeface="Arial"/>
                <a:ea typeface="Arial"/>
              </a:rPr>
              <a:t>VisciPower:</a:t>
            </a:r>
            <a:r>
              <a:rPr b="1" i="1" lang="pt-BR" sz="3900" spc="-1" strike="noStrike">
                <a:solidFill>
                  <a:srgbClr val="000000"/>
                </a:solidFill>
                <a:latin typeface="Arial"/>
                <a:ea typeface="Arial"/>
              </a:rPr>
              <a:t> Um Ambiente de Interação com os Dados Elétricos Georreferenciado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aulo Meira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ajiv Andrade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rientadora: Profa. Wu Shin-Ting</a:t>
            </a:r>
            <a:br>
              <a:rPr sz="3000"/>
            </a:b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CA – Faculdade de Engenharia Elétrica e de Computação - Universidade Estadual de Campin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{meira,rajiv,ting}@dca.fee.unicamp.b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733920"/>
            <a:ext cx="1089648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Introduçã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A energia elétrica consumida no Brasil é de origem predominantemente hidráulica. Gerada nas usinas hidrelétricas, ela é transmitida por longas linhas de transmissão até os centros de consumo. Para reduzir perdas, o nível de tensão da energia é elevada em subestações antes da transmissão e nas proximidades dos centros de consumo ele é reduzido, também em subestações, até o nível de consumo residencial (127V ou 220V)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2341160" y="16884720"/>
            <a:ext cx="27208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76560" y="7848720"/>
            <a:ext cx="8277120" cy="4716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28800" y="12573000"/>
            <a:ext cx="107442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Arial"/>
              </a:rPr>
              <a:t>Mais de 96% da capacidade de produção e transmissão de eletricidade do nosso país faz parte do Sistema Interligado Nacional (SIN) com múltiplos proprietários. A coordenação e controle da operação das instalações deste sistema é de responsabilidade do Operador Nacional de Sistema Elétrico (ONS), criado em 26 de agosto de 1998, sob a fiscalização e regulação da Agência Nacional de Energia Elétrica (Aneel).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Para facilitar o acesso às informações atualizadas do SIN, o ONS está desenvolvendo um sistema de Informações Geográficas Cadastrais do SIN (SINDAT), integrando num mesmo ambiente os dados geográficos (mapas digitais) e a topologia da rede de transmissão. Este sistema está sendo desenvolvido com base na tecnologia de Sistemas de Informações Geográficas (GIS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9235240"/>
            <a:ext cx="10744200" cy="46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  <a:ea typeface="Arial"/>
              </a:rPr>
              <a:t>Integração dos Dados Elétricos aos Geográfic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O acesso fácil e interativo dos dados da topologia da rede de operação do ONS abre novas perspectivas para as pesquisas na área de Planejamento e Controle de Sistemas de Energia Elétrica. Se integrarmos à topologia da rede as informações elétricas, utilizadas para análise e simulações de uma rede elétrica, podemos desenvolver uma interface gráfica e amigável, com múltiplas possibilidades de visualização das correlações entre os dados do sistema. Isso possibilitará novas interpretações dos problemas.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944600" y="3946680"/>
            <a:ext cx="1150632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Obje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Desenvolver um ambiente de interação com os dados elétricos contextualizados geograficame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944600" y="11201400"/>
            <a:ext cx="114300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 ambiente é provido de uma interface gráfica através da qual os usuários podem interagir com os dados elétricos contextualizados geograficamente. A camada intermediária é configurável através de acoplamento de distintos simuladores e/ou de técnicas de mapeamento de dados numéricos para dados gráficos, assegurando a legibilidade e a fácil compreensão dos dados, assim como a sua alteração quando necessár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944600" y="14843160"/>
            <a:ext cx="1150632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500" spc="-1" strike="noStrike">
                <a:solidFill>
                  <a:srgbClr val="000000"/>
                </a:solidFill>
                <a:latin typeface="Arial"/>
                <a:ea typeface="Arial"/>
              </a:rPr>
              <a:t>Protótip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 protótipo, VisciPower, está sendo desenvolvido na linguagem de programação C++, utilizando-se ferramentas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pen-sourc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em ambiente Linux. Destas ferramentas, as principais sã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wxWidget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biblioteca responsável pela interface gráfica e suas interações em gera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OpenGL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biblioteca que possibilita a renderização de imagens de alta qualidade, utilizando aceleração por </a:t>
            </a:r>
            <a:r>
              <a:rPr b="0" i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hardware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quando disponíve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stgreSQL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sistema de banco de dados relacional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Symbol"/>
                <a:ea typeface="Symbol"/>
              </a:rPr>
              <a:t>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ostGIS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: extensão que possibilita ao PostgreSQL o tratamento de dados georreferen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055320" y="16427520"/>
            <a:ext cx="27208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ss1" descr=""/>
          <p:cNvPicPr/>
          <p:nvPr/>
        </p:nvPicPr>
        <p:blipFill>
          <a:blip r:embed="rId3"/>
          <a:stretch/>
        </p:blipFill>
        <p:spPr>
          <a:xfrm>
            <a:off x="14236560" y="20723400"/>
            <a:ext cx="10833120" cy="8232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944600" y="29168640"/>
            <a:ext cx="1143000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Através do VisciPower, podemos analisar os parâmetros elétricos dos componentes da rede elétrica em questão. É possível aplicar filtros por nível de tensão, por exemplo, o que possibilita a melhor análise de subre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O protótipo também inclui resolução de fluxo de carga linearizado como forma de validar o modelo adotado. As linhas são coloridas de acordo com o nível de carregamento resultante da simulaçã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249520" y="32842080"/>
            <a:ext cx="111297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Mais informações nos </a:t>
            </a:r>
            <a:r>
              <a:rPr b="1" i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sites</a:t>
            </a:r>
            <a:r>
              <a:rPr b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http://www.dca.fee.unicamp.br/projects/vdx/andrade</a:t>
            </a:r>
            <a:br>
              <a:rPr sz="2100"/>
            </a:br>
            <a:r>
              <a:rPr b="0" i="1" lang="pt-BR" sz="2100" spc="-1" strike="noStrike">
                <a:solidFill>
                  <a:srgbClr val="000000"/>
                </a:solidFill>
                <a:latin typeface="Arial"/>
                <a:ea typeface="Arial"/>
              </a:rPr>
              <a:t>http://www.dca.fee.unicamp.br/projects/vdx/mei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20920" y="5867280"/>
            <a:ext cx="1135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Arquitetura do Ambient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8741680"/>
            <a:ext cx="1074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ONS (</a:t>
            </a:r>
            <a:r>
              <a:rPr b="0" i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ons.org.br/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08040" y="6730920"/>
            <a:ext cx="11088720" cy="44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67240"/>
                <a:tab algn="l" pos="7134120"/>
                <a:tab algn="l" pos="10701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249520" y="7099200"/>
            <a:ext cx="15922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os de E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38360" y="7099200"/>
            <a:ext cx="679608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395840" y="7839000"/>
            <a:ext cx="1430280" cy="25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os d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721440" y="7823160"/>
            <a:ext cx="1430280" cy="11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o mape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1047040" y="7839000"/>
            <a:ext cx="1430280" cy="258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enciamento do diálogo (Interfa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0145240" y="8367840"/>
            <a:ext cx="90180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7826120" y="8356320"/>
            <a:ext cx="901440" cy="111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7837280" y="10263240"/>
            <a:ext cx="322092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477320" y="8955000"/>
            <a:ext cx="703440" cy="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411160" y="7910640"/>
            <a:ext cx="1071720" cy="11062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orrefe-renci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16200" y="9321840"/>
            <a:ext cx="1073160" cy="1108080"/>
          </a:xfrm>
          <a:prstGeom prst="flowChartMagneticDisk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ét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8200" y="8550360"/>
            <a:ext cx="911160" cy="32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5482880" y="9979200"/>
            <a:ext cx="91296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727560" y="9026640"/>
            <a:ext cx="1430640" cy="110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567240"/>
                <a:tab algn="l" pos="7134120"/>
                <a:tab algn="l" pos="10701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vers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0145240" y="9480600"/>
            <a:ext cx="901800" cy="7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826120" y="9529920"/>
            <a:ext cx="890640" cy="9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23180760" y="8170920"/>
            <a:ext cx="1800000" cy="17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02:18:52Z</dcterms:created>
  <dc:creator>Registered Owner</dc:creator>
  <dc:description/>
  <dc:language>en-US</dc:language>
  <cp:lastModifiedBy>Windows XP</cp:lastModifiedBy>
  <dcterms:modified xsi:type="dcterms:W3CDTF">2006-08-22T17:59:02Z</dcterms:modified>
  <cp:revision>25</cp:revision>
  <dc:subject/>
  <dc:title>Slide 1</dc:title>
</cp:coreProperties>
</file>